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15B1-6AB5-4557-939C-A126C901BC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овесно-форму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 вигляді блок-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пис на алгоритмічній мов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6288-ABDB-49FB-8A95-59A4330F2A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945-C479-4998-85A8-0D7FF96E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4C-CECC-4E80-AECF-503C88FC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F25-E3F0-41B2-8A47-2DF3AC4B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F8B-89D8-47BC-8F14-C1B40ED5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681-CAE5-4732-8952-DF8D5A39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C8A-4C94-4837-A911-D1E9FD95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600-36A2-4C8D-9260-CACF826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090-863D-4549-984F-0F47CC5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488-37AF-42CD-8BF6-F3011E4F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FCD-94D2-435E-8218-BFC39084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3E8-E51A-45FE-9682-B44EC49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8A2-96D7-45FA-9DEF-F9EF022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F47A-79B9-4A28-B542-44602F6305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11280" y="1125360"/>
            <a:ext cx="7921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ластивості алгоритмів.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и подання  алгоритмів”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712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 Поняття алгоритму. Властивості алгорит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Форми подання алгоритм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. Базова структура алгоритм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276720" y="1052640"/>
            <a:ext cx="417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Л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</a:rPr>
              <a:t>Властивості алгоритмі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857160" y="2571840"/>
            <a:ext cx="778680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. Масов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Визначен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искретн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. Результативн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Формальні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Форми подання алгоритмі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571680" y="1500120"/>
            <a:ext cx="82152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58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. Словесно-формульний – основний спосіб написання алгоритмів на етапі постановки задачі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У вигляді блок-схем – це таке графічне представлення алгоритму, при якому роз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язок задачі зображується у вигляді різних геометричних фі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початок або кінець алгорит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ведення або виведення да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про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ум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Блок-схема: альтернативный процесс 6"/>
          <p:cNvSpPr/>
          <p:nvPr/>
        </p:nvSpPr>
        <p:spPr>
          <a:xfrm>
            <a:off x="928800" y="3643200"/>
            <a:ext cx="1428480" cy="500040"/>
          </a:xfrm>
          <a:prstGeom prst="flowChartAlternateProcess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Блок-схема: данные 7"/>
          <p:cNvSpPr/>
          <p:nvPr/>
        </p:nvSpPr>
        <p:spPr>
          <a:xfrm>
            <a:off x="714240" y="4429080"/>
            <a:ext cx="1557360" cy="612720"/>
          </a:xfrm>
          <a:prstGeom prst="flowChartInputOutpu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Блок-схема: процесс 8"/>
          <p:cNvSpPr/>
          <p:nvPr/>
        </p:nvSpPr>
        <p:spPr>
          <a:xfrm>
            <a:off x="928800" y="5214960"/>
            <a:ext cx="1357200" cy="500040"/>
          </a:xfrm>
          <a:prstGeom prst="flowChartProcess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Блок-схема: решение 9"/>
          <p:cNvSpPr/>
          <p:nvPr/>
        </p:nvSpPr>
        <p:spPr>
          <a:xfrm>
            <a:off x="1071720" y="5786280"/>
            <a:ext cx="1357200" cy="857520"/>
          </a:xfrm>
          <a:prstGeom prst="flowChartDecision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11"/>
          <p:cNvSpPr/>
          <p:nvPr/>
        </p:nvSpPr>
        <p:spPr>
          <a:xfrm flipH="1" flipV="1">
            <a:off x="713880" y="6215040"/>
            <a:ext cx="357480" cy="14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Дуга 14"/>
          <p:cNvSpPr/>
          <p:nvPr/>
        </p:nvSpPr>
        <p:spPr>
          <a:xfrm>
            <a:off x="1714680" y="6215040"/>
            <a:ext cx="1071360" cy="71640"/>
          </a:xfrm>
          <a:custGeom>
            <a:avLst/>
            <a:gdLst/>
            <a:ahLst/>
            <a:rect l="l" t="t" r="r" b="b"/>
            <a:pathLst>
              <a:path stroke="0" w="1071563" h="71437">
                <a:moveTo>
                  <a:pt x="535782" y="0"/>
                </a:moveTo>
                <a:cubicBezTo>
                  <a:pt x="831686" y="0"/>
                  <a:pt x="1071564" y="15992"/>
                  <a:pt x="1071564" y="35719"/>
                </a:cubicBezTo>
                <a:lnTo>
                  <a:pt x="535782" y="35719"/>
                </a:lnTo>
                <a:lnTo>
                  <a:pt x="535782" y="0"/>
                </a:lnTo>
                <a:close/>
              </a:path>
              <a:path fill="none" w="1071563" h="71437">
                <a:moveTo>
                  <a:pt x="535782" y="0"/>
                </a:moveTo>
                <a:cubicBezTo>
                  <a:pt x="831686" y="0"/>
                  <a:pt x="1071564" y="15992"/>
                  <a:pt x="1071564" y="35719"/>
                </a:cubicBezTo>
              </a:path>
            </a:pathLst>
          </a:custGeom>
          <a:noFill/>
          <a:ln w="9360">
            <a:solidFill>
              <a:srgbClr val="00cc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357120" y="585792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6"/>
          <p:cNvSpPr/>
          <p:nvPr/>
        </p:nvSpPr>
        <p:spPr>
          <a:xfrm flipH="1">
            <a:off x="2286000" y="5715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Вказівка варіант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ASE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селектор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мітка 1: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вказівка 1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gt;</a:t>
            </a:r>
            <a:r>
              <a:rPr b="0" lang="uk-UA" sz="28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мітка 2: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вказівка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gt;</a:t>
            </a:r>
            <a:r>
              <a:rPr b="0" lang="uk-UA" sz="28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……………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мітка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N</a:t>
            </a:r>
            <a:r>
              <a:rPr b="0" lang="uk-UA" sz="2800" spc="-1" strike="noStrike">
                <a:solidFill>
                  <a:srgbClr val="ff00ff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вказівка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 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ипадку, коли необхідно викорис-товувати декілька вказівок розгалу-ження, вкладених одна в одну, то краще замінити їх вказівкою варіа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Вказівка безумовного переход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V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GOTO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V1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V1: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&lt;</a:t>
            </a:r>
            <a:r>
              <a:rPr b="0" i="1" lang="uk-UA" sz="2800" spc="-1" strike="noStrike">
                <a:solidFill>
                  <a:srgbClr val="ff00ff"/>
                </a:solidFill>
                <a:latin typeface="Times New Roman"/>
              </a:rPr>
              <a:t>вказівка </a:t>
            </a:r>
            <a:r>
              <a:rPr b="0" i="1" lang="en-US" sz="2800" spc="-1" strike="noStrike">
                <a:solidFill>
                  <a:srgbClr val="ff00ff"/>
                </a:solidFill>
                <a:latin typeface="Times New Roman"/>
              </a:rPr>
              <a:t>N&gt;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нший спосіб зміни порядку виконання програми здійснюється за допомогою вказівки безумовного переходу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и виконанні якої керування програмою передається на вказівку із заданою мітко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ласти програму для обчислення вира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635120" y="2852640"/>
                <a:ext cx="51544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авдання додом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1:19:25Z</dcterms:created>
  <dc:creator/>
  <dc:description/>
  <dc:language>en-US</dc:language>
  <cp:lastModifiedBy>RePack by Diakov</cp:lastModifiedBy>
  <dcterms:modified xsi:type="dcterms:W3CDTF">2024-04-07T21:25:23Z</dcterms:modified>
  <cp:revision>19</cp:revision>
  <dc:subject/>
  <dc:title>Алгоритми</dc:title>
</cp:coreProperties>
</file>